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E653C-49DA-44DA-A10A-074D7DDB4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DDADE-C231-4DBB-82F3-8DAA7064F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2AFD8-D89C-402E-845E-F36A4FAC6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3E8F3-2CB3-4C69-9E9B-BC248CA4D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E04CD5F-1620-43ED-ABFD-7A6CC045D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27E41A-3086-4C01-8E20-E3EB6C9AB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97C5B9-A4B5-4F6A-A7B3-16F6701A0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D1EAFC-70DB-4FEB-A189-99B373B1C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940F5A-094E-49C5-9E25-161E69D16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EDBA39-3D97-40BE-B5D2-9B1AAD4C6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480EAA-9B93-460E-883D-DC682F8D4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1F943-C78B-41B8-8D7E-7E324EEB5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1F5665-9431-4D36-A7F5-386467C7F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3A0562-C380-4BB9-B840-485D6D676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C2A84B-3796-4EF6-99FB-82A1B7963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2F627DE-93AF-4A99-9CC3-29DB5ECC0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13CD823-E178-46EE-ACE6-D154BD43C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44E118-344D-4F88-AFA6-6EE73BBD04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34EBC1-9916-46E2-AF42-2C60E1E5C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FE743-2927-433C-9F9F-D4F77B63B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64BF3-991B-4080-ADD9-3FF11B554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997737-D74F-4E57-B69F-18A51D38E5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B2A8C-3D64-40B5-B57A-0F19DD3BC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6FE2D-039E-48CA-B0BC-0B0848F6F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1F55D-A132-4F90-95D1-E127F7032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4060D-E7AC-49DB-9226-F44FD091F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B9EA3-81F5-4072-8219-DD59023F6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492675-0395-4142-A953-FD54E899F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4B485-1ADC-4B8D-90B3-5DE1E63BEA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31BD6C-2785-491F-864C-8DD51C0A52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8CE83FF-ED5A-454E-8291-ABD27E02938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6441481-0836-4C61-A4BD-CD89D586A6E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BF5BBCA-B856-42CD-9DCC-C8115CB0E4B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621D-944C-422E-A892-8FE057A09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FF4D07F-98AE-4BD3-9C93-EE7C715274A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7BA73C3-C8AC-4B60-82F3-9DFF80EFB8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B0648C1-F4FA-4BD2-AD60-E089B1878C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CB66E27-AB6A-438F-8A11-32946CE050A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9688540-C3F5-479B-A074-2D03ACAC91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D234E3A-4F09-4E6A-9C97-158CC3E31A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B63027A-98E5-4CE6-BBAD-DAFD42C03E6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2F8E967-83C7-4B2B-B25E-CBBC84B6027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C984E1E-6078-4556-904F-C4D0D4B9FFF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C61AB-AAF1-409B-AB51-BCA98F466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AC9BC-22FE-471E-9CF0-4D9BA6B51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036EC-E70E-4841-AAF7-7BBA369C2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1EABD-285B-47CA-B183-8361747CA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9D1C5-A839-496B-AC65-B143F9D6A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C114-C366-4C89-86EB-B88FEBA23E6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E1BC-2755-4DBD-B861-A6E45B69DC7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3CE3-B6FB-4D31-93D3-AD717EE6359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E9EE-8AF0-4534-9B27-1B996EDDF70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Hitlerjugend_Allgemeine_Flagge.svg" TargetMode="Externa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authordon.com/images/site_graphics/hilter_youth_mind_contol.jpg&amp;imgrefurl=http://www.authordon.com/index.php?page_id=272&amp;usg=__jmRsf0q9aoTcQhVQ3VhZypLR12k=&amp;h=390&amp;w=608&amp;sz=41&amp;hl=en&amp;start=12&amp;um=1&amp;itbs=1&amp;tbnid=nX8iVxfXBmevmM:&amp;tbnh=87&amp;tbnw=136&amp;prev=/images?q=HITLER+YOUTH&amp;hl=en&amp;safe=active&amp;rls=com.microsoft:en-us&amp;um=1" TargetMode="External"/><Relationship Id="rId2" Type="http://schemas.openxmlformats.org/officeDocument/2006/relationships/image" Target="../media/image7.jpeg"/><Relationship Id="rId3" Type="http://schemas.openxmlformats.org/officeDocument/2006/relationships/hyperlink" Target="http://en.wikipedia.org/wiki/File:Bundesarchiv_Bild_133-393,_Worms,_Luftschutz&#252;bung_der_Hitlerjugend.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histclo.com/imagef/youth/nat/ger/hitler/org/bdm/bdm03s.jpg&amp;imgrefurl=http://histclo.com/Youth/youth/org/nat/hitler/org/hjo-bdm.htm&amp;usg=__Bi5kCh7FHemHAD8TcJzSDGPqAes=&amp;h=768&amp;w=558&amp;sz=39&amp;hl=en&amp;start=193&amp;um=1&amp;itbs=1&amp;tbnid=svbVnov8mTh0rM:&amp;tbnh=142&amp;tbnw=103&amp;prev=/images?q=HITLER+YOUTH&amp;ndsp=18&amp;hl=en&amp;safe=active&amp;rls=com.microsoft:en-us&amp;sa=N&amp;start=180&amp;um=1"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histclo.com/Youth/youth/org/nat/hitler/unk/unk-nat01.htm"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russelspictures.com/wp-content/photos/WWII-2/hitler-youth-girls.jpg&amp;imgrefurl=http://www.brusselspictures.com/cinquantenaire/musee-royal-de-larmee/&amp;usg=__HDMaEtltSh3fxBygIzZeCexgVOg=&amp;h=1267&amp;w=1689&amp;sz=410&amp;hl=en&amp;start=189&amp;um=1&amp;itbs=1&amp;tbnid=ttZw1-dsv-yfgM:&amp;tbnh=113&amp;tbnw=150&amp;prev=/images?q=HITLER+YOUTH&amp;ndsp=18&amp;hl=en&amp;safe=active&amp;rls=com.microsoft:en-us&amp;sa=N&amp;start=180&amp;um=1"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371600" y="2133720"/>
            <a:ext cx="6400800" cy="13716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y: Kayla McCarty, Heather Vagasky, Gretchen Cruz &amp; Danielle Dorner</a:t>
            </a:r>
            <a:endParaRPr b="0" lang="en-US" sz="2400" spc="-1" strike="noStrike">
              <a:solidFill>
                <a:srgbClr val="ffffff"/>
              </a:solidFill>
              <a:latin typeface="Constantia"/>
            </a:endParaRPr>
          </a:p>
        </p:txBody>
      </p:sp>
      <p:pic>
        <p:nvPicPr>
          <p:cNvPr id="171" name="Title 1" descr=""/>
          <p:cNvPicPr/>
          <p:nvPr/>
        </p:nvPicPr>
        <p:blipFill>
          <a:blip r:embed="rId1"/>
          <a:stretch/>
        </p:blipFill>
        <p:spPr>
          <a:xfrm>
            <a:off x="-219240" y="-6480"/>
            <a:ext cx="9429840" cy="2073240"/>
          </a:xfrm>
          <a:prstGeom prst="rect">
            <a:avLst/>
          </a:prstGeom>
          <a:ln w="0">
            <a:noFill/>
          </a:ln>
        </p:spPr>
      </p:pic>
      <p:pic>
        <p:nvPicPr>
          <p:cNvPr id="172" name="Picture 3" descr="HitlerYouth.jpg"/>
          <p:cNvPicPr/>
          <p:nvPr/>
        </p:nvPicPr>
        <p:blipFill>
          <a:blip r:embed="rId2"/>
          <a:stretch/>
        </p:blipFill>
        <p:spPr>
          <a:xfrm>
            <a:off x="1828800" y="3124080"/>
            <a:ext cx="5334120" cy="357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304920"/>
            <a:ext cx="8229600" cy="58212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y name is Hadar Kabochi I lived with my mother Bernadette Kabochi, my father Adalrik Kabochi and my little sister Ghislaine Kabochi. We lived in Germany from 1935 to 1940 and then we moved to the U.S. While we lived in Germany me and my little sister were members in the Hitler Youth Group.</a:t>
            </a:r>
            <a:endParaRPr b="0" lang="en-US" sz="2800" spc="-1" strike="noStrike">
              <a:solidFill>
                <a:srgbClr val="ffffff"/>
              </a:solidFill>
              <a:latin typeface="Constantia"/>
            </a:endParaRPr>
          </a:p>
        </p:txBody>
      </p:sp>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75" name="Picture 9" descr="[photo]"/>
          <p:cNvPicPr/>
          <p:nvPr/>
        </p:nvPicPr>
        <p:blipFill>
          <a:blip r:embed="rId1"/>
          <a:stretch/>
        </p:blipFill>
        <p:spPr>
          <a:xfrm>
            <a:off x="609480" y="3352680"/>
            <a:ext cx="8153640" cy="321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Content Placeholder 3" descr="http://upload.wikimedia.org/wikipedia/commons/thumb/6/67/Hitlerjugend_Allgemeine_Flagge.svg/120px-Hitlerjugend_Allgemeine_Flagge.svg.png">
            <a:hlinkClick r:id="rId1"/>
          </p:cNvPr>
          <p:cNvPicPr/>
          <p:nvPr/>
        </p:nvPicPr>
        <p:blipFill>
          <a:blip r:embed="rId2"/>
          <a:stretch/>
        </p:blipFill>
        <p:spPr>
          <a:xfrm>
            <a:off x="1447920" y="152280"/>
            <a:ext cx="5829120" cy="2963880"/>
          </a:xfrm>
          <a:prstGeom prst="rect">
            <a:avLst/>
          </a:prstGeom>
          <a:ln w="0">
            <a:noFill/>
          </a:ln>
        </p:spPr>
      </p:pic>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78" name="Picture 4" descr="http://www.nobeliefs.com/images/Hitler%26Church.jpg"/>
          <p:cNvPicPr/>
          <p:nvPr/>
        </p:nvPicPr>
        <p:blipFill>
          <a:blip r:embed="rId3"/>
          <a:stretch/>
        </p:blipFill>
        <p:spPr>
          <a:xfrm>
            <a:off x="1523880" y="3352680"/>
            <a:ext cx="6172200" cy="314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pfnX8iVxfXBmevmM:" descr="http://t2.gstatic.com/images?q=tbn:nX8iVxfXBmevmM:http://www.authordon.com/images/site_graphics/hilter_youth_mind_contol.jpg">
            <a:hlinkClick r:id="rId1"/>
          </p:cNvPr>
          <p:cNvPicPr/>
          <p:nvPr/>
        </p:nvPicPr>
        <p:blipFill>
          <a:blip r:embed="rId2"/>
          <a:stretch/>
        </p:blipFill>
        <p:spPr>
          <a:xfrm>
            <a:off x="457200" y="1523880"/>
            <a:ext cx="5334120" cy="2057400"/>
          </a:xfrm>
          <a:prstGeom prst="rect">
            <a:avLst/>
          </a:prstGeom>
          <a:ln w="0">
            <a:noFill/>
          </a:ln>
        </p:spPr>
      </p:pic>
      <p:sp>
        <p:nvSpPr>
          <p:cNvPr id="18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81" name="Picture 4" descr="http://upload.wikimedia.org/wikipedia/commons/thumb/6/6c/Bundesarchiv_Bild_133-393%2C_Worms%2C_Luftschutz%C3%BCbung_der_Hitlerjugend.jpg/180px-Bundesarchiv_Bild_133-393%2C_Worms%2C_Luftschutz%C3%BCbung_der_Hitlerjugend.jpg">
            <a:hlinkClick r:id="rId3"/>
          </p:cNvPr>
          <p:cNvPicPr/>
          <p:nvPr/>
        </p:nvPicPr>
        <p:blipFill>
          <a:blip r:embed="rId4"/>
          <a:stretch/>
        </p:blipFill>
        <p:spPr>
          <a:xfrm>
            <a:off x="2438280" y="3962520"/>
            <a:ext cx="64771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Content Placeholder 3" descr="http://t1.gstatic.com/images?q=tbn:svbVnov8mTh0rM:http://histclo.com/imagef/youth/nat/ger/hitler/org/bdm/bdm03s.jpg">
            <a:hlinkClick r:id="rId1"/>
          </p:cNvPr>
          <p:cNvPicPr/>
          <p:nvPr/>
        </p:nvPicPr>
        <p:blipFill>
          <a:blip r:embed="rId2"/>
          <a:stretch/>
        </p:blipFill>
        <p:spPr>
          <a:xfrm>
            <a:off x="762120" y="2286000"/>
            <a:ext cx="3581280" cy="3200400"/>
          </a:xfrm>
          <a:prstGeom prst="rect">
            <a:avLst/>
          </a:prstGeom>
          <a:ln w="0">
            <a:noFill/>
          </a:ln>
        </p:spPr>
      </p:pic>
      <p:sp>
        <p:nvSpPr>
          <p:cNvPr id="18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84" name="Picture 4" descr="http://histclo.com/youth/youth/image/imgmain/hj01.jpg"/>
          <p:cNvPicPr/>
          <p:nvPr/>
        </p:nvPicPr>
        <p:blipFill>
          <a:blip r:embed="rId3"/>
          <a:stretch/>
        </p:blipFill>
        <p:spPr>
          <a:xfrm>
            <a:off x="5257800" y="1905120"/>
            <a:ext cx="3657600" cy="403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Content Placeholder 3" descr="http://histclo.com/youth/youth/image/imgnat/futurls.jpg">
            <a:hlinkClick r:id="rId1"/>
          </p:cNvPr>
          <p:cNvPicPr/>
          <p:nvPr/>
        </p:nvPicPr>
        <p:blipFill>
          <a:blip r:embed="rId2"/>
          <a:stretch/>
        </p:blipFill>
        <p:spPr>
          <a:xfrm>
            <a:off x="838080" y="1600200"/>
            <a:ext cx="3353040" cy="4800600"/>
          </a:xfrm>
          <a:prstGeom prst="rect">
            <a:avLst/>
          </a:prstGeom>
          <a:ln w="0">
            <a:noFill/>
          </a:ln>
        </p:spPr>
      </p:pic>
      <p:sp>
        <p:nvSpPr>
          <p:cNvPr id="18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87" name="Picture 4" descr="http://www.holocaustresearchproject.org/holoprelude/images/junior%20member%20of%20the%20Hitler%20Youth%20hands%20Hitler%20a%20letter%20written%20by%20the%20child's%20sick%20mother.jpg"/>
          <p:cNvPicPr/>
          <p:nvPr/>
        </p:nvPicPr>
        <p:blipFill>
          <a:blip r:embed="rId3"/>
          <a:stretch/>
        </p:blipFill>
        <p:spPr>
          <a:xfrm>
            <a:off x="5486400" y="1600200"/>
            <a:ext cx="312408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Content Placeholder 3" descr="http://www.holocaustresearchproject.org/holoprelude/images/Adolf%20Hitler%20greets%20members%20of%20the%20Arbeiterjugend%20sm.jpg"/>
          <p:cNvPicPr/>
          <p:nvPr/>
        </p:nvPicPr>
        <p:blipFill>
          <a:blip r:embed="rId1"/>
          <a:stretch/>
        </p:blipFill>
        <p:spPr>
          <a:xfrm>
            <a:off x="609480" y="1905120"/>
            <a:ext cx="4419720" cy="4038480"/>
          </a:xfrm>
          <a:prstGeom prst="rect">
            <a:avLst/>
          </a:prstGeom>
          <a:ln w="0">
            <a:noFill/>
          </a:ln>
        </p:spPr>
      </p:pic>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90" name="Picture 4" descr="http://www.holocaustresearchproject.org/holoprelude/images/Banne%20flag.jpg"/>
          <p:cNvPicPr/>
          <p:nvPr/>
        </p:nvPicPr>
        <p:blipFill>
          <a:blip r:embed="rId2"/>
          <a:stretch/>
        </p:blipFill>
        <p:spPr>
          <a:xfrm>
            <a:off x="5715000" y="1600200"/>
            <a:ext cx="28954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ipfttZw1-dsv-yfgM:" descr="http://t0.gstatic.com/images?q=tbn:ttZw1-dsv-yfgM:http://www.brusselspictures.com/wp-content/photos/WWII-2/hitler-youth-girls.jpg">
            <a:hlinkClick r:id="rId1"/>
          </p:cNvPr>
          <p:cNvPicPr/>
          <p:nvPr/>
        </p:nvPicPr>
        <p:blipFill>
          <a:blip r:embed="rId2"/>
          <a:stretch/>
        </p:blipFill>
        <p:spPr>
          <a:xfrm>
            <a:off x="304920" y="2209680"/>
            <a:ext cx="4905360" cy="3124440"/>
          </a:xfrm>
          <a:prstGeom prst="rect">
            <a:avLst/>
          </a:prstGeom>
          <a:ln w="0">
            <a:noFill/>
          </a:ln>
        </p:spPr>
      </p:pic>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93" name="Picture 4" descr="http://t3.gstatic.com/images?q=tbn:jbBrLas3Y4UvLM:http://warrelics.eu/forum/military_photos/non-combat-uniforms-related-insignia-3-reich/8762d1233051351t-hitler-youth-assortment-1.jpg"/>
          <p:cNvPicPr/>
          <p:nvPr/>
        </p:nvPicPr>
        <p:blipFill>
          <a:blip r:embed="rId3"/>
          <a:stretch/>
        </p:blipFill>
        <p:spPr>
          <a:xfrm>
            <a:off x="5715000" y="2286000"/>
            <a:ext cx="312408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19:06:33Z</dcterms:created>
  <dc:creator>Information Technology</dc:creator>
  <dc:description/>
  <dc:language>en-US</dc:language>
  <cp:lastModifiedBy>Information Technology</cp:lastModifiedBy>
  <dcterms:modified xsi:type="dcterms:W3CDTF">2010-02-17T19:28:14Z</dcterms:modified>
  <cp:revision>8</cp:revision>
  <dc:subject/>
  <dc:title>Hitler Youth Group</dc:title>
</cp:coreProperties>
</file>